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E3F-57A7-4BF1-A10C-055B75C9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7BA-9F67-46D1-903C-1133C560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75A-3DAE-4F24-81DE-A761DA61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32E-29D9-45C4-92DF-DE8B1082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6019-5F8A-4A1A-AB7A-B1A86FB7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6419-D8E3-47CA-83B7-415A1CCC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E2E7-5C65-4CBC-AA4F-0B061C62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2C14-638D-4B89-8C50-DEE3018F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76AC-F3CD-4801-B9EE-9C367563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8DDF-F991-4D36-8802-AA8A1354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8241-018F-4E87-81B5-F3F667B7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5C0-0F28-4D21-82E0-809BB335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871B-A75E-492F-9B0C-FE880E4E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974C-1E60-4088-B616-03F30E74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6E51-C314-4D5A-B3B3-0872CBAE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EB8F-02F8-41B9-8B4A-D8A4DC29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6A20-1D6D-4DFE-BAF5-708B450C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27F-6B07-43D8-A6DC-4A3DF5FD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274-227E-41BA-AE58-0E2BD327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A9A-C5C4-4811-9316-3E526E23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D1D-64C2-433D-9AE6-72019574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B20-5D32-42A7-A122-E9F22861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9A3-7F0B-453B-92C2-880ECCC2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FEB-CEC3-46CF-98DC-D8876F59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FE2E-7A0A-4699-A3DF-54C43D441EC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320F-44A1-4BD7-9240-2836DC022EF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Man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: korrielag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a mansi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  <a:ea typeface="Arial"/>
              </a:rPr>
              <a:t>ó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.  Es fabulosa y bell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267080" y="3295800"/>
            <a:ext cx="443880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a sal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a sala es estupenda y bonit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4952880" cy="320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a coci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a cocina  mag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  <a:ea typeface="Arial"/>
              </a:rPr>
              <a:t>ì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co y bell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267080" y="2666880"/>
            <a:ext cx="4381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uatr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 Cuatro es bella y bonit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114800" y="3168720"/>
            <a:ext cx="45435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Ban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Bano es estupenda y bell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48769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Pat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Patio es grande y bella y fabulos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962520" y="3200400"/>
            <a:ext cx="4762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Jard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jardin es magnifico y bella y gran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86200" y="29718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pisci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Piscina es grande y fabulosa y bell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267080" y="278136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2:07:08Z</dcterms:created>
  <dc:creator>lagekor</dc:creator>
  <dc:description/>
  <dc:language>en-US</dc:language>
  <cp:lastModifiedBy>lagekor</cp:lastModifiedBy>
  <dcterms:modified xsi:type="dcterms:W3CDTF">2012-10-25T17:23:37Z</dcterms:modified>
  <cp:revision>4</cp:revision>
  <dc:subject/>
  <dc:title>Slide 1</dc:title>
</cp:coreProperties>
</file>